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119-5D0C-4777-AC6E-98AAA204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D01-27CF-4744-9E71-3A4505C3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AD2-FDCF-4982-9719-FCF78A5B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0FC-A822-497C-874A-23ED8A40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7701-DD9C-4947-8B36-D57AF339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F911-45CB-4E06-A59C-CE50E92C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EA2E-9370-4211-8368-3A311E51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949B-179A-4B87-AD89-6846D92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4B22-2AC6-4B13-A627-DA719E96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C8C7-9586-4C02-9452-B439EFFE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D1B9-7B37-4456-B640-7993DBE3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153-49B8-4DF7-AFD2-ADD76FD4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0B99-7BBA-4BC8-A78E-7CA90692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F138-540C-4DFE-9307-0C1D28E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4C6E-1265-417B-9B96-45120CA4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E1F8-3AEA-4432-BFA0-33C8ADC8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983B-9B70-4349-8707-605CB37A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3DA7-549A-468E-AFD2-8074E59F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B371-C488-415A-8D1B-E6947DA8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07C5-18FA-4BF4-B9C5-84BEC002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AF625-40AC-46CB-B971-EBBC4473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1FEC-B4AF-45EA-8E2D-B0BA54DD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6D3-963B-439D-B9E6-618C3FFE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6AE2-65A3-4AB3-B067-837F1FE6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D68D-7A12-4F1B-A62F-8015F8D2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F8BC-71B3-42A2-B951-8DDC7ADB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9D735-9FF4-4E63-8D24-6DA297A5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B2CE-833F-4BF8-A608-3DA32855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418E-1EDB-439E-A09B-052EF330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8878B-3726-413F-8C18-64F6C55F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53AAD-3055-4A0C-B5B2-0B7405CA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B282-4D25-43A2-A458-80CF4A41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4A24-5C14-4233-8D43-2A2FEDAF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A5C-8E38-4E38-AB29-7BB45AC2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0910-58F9-48D4-8188-8E814307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523C-040F-4893-BB90-C560CD6B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E493D-C1D8-4A01-B7F1-1395CF85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66247-A9C0-41DC-8C26-251BEF24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ADDD-A353-41B0-B474-9DF84EE0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0582E-790F-4FAC-8C24-296D61FB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2FB3-38F6-4137-8DF6-DA01A20B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BF138-F7E5-4128-8909-B07076C5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846C6-39F1-4C3B-A1C7-6F022418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E9F-D40E-41CE-8123-862DAC14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268-9F1B-44BB-8092-89ABAD48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4EA-6E71-4985-915A-DF39AB15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D5A-4C0F-4C97-8C43-E7F12319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728-678F-4D24-90A2-48CAFE9B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E0AA-C2FB-4517-8202-52E1FD9F01F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3177-C64E-456E-92C9-709069059A7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3E3E-82FE-448B-B87A-47B40929700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CF51-0EEC-469C-934B-0414662B51D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-328680" y="1023840"/>
            <a:ext cx="9472680" cy="5059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0" y="401760"/>
            <a:ext cx="9113760" cy="4524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104760" y="4554360"/>
            <a:ext cx="2782800" cy="208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397560" y="3746520"/>
            <a:ext cx="2716200" cy="2036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986200" y="45543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877000" y="480060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638760" cy="1815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24000" y="139680"/>
            <a:ext cx="8350200" cy="787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Гаджиева Аида Ирзаевна</cp:lastModifiedBy>
  <dcterms:modified xsi:type="dcterms:W3CDTF">2022-11-23T16:23:23Z</dcterms:modified>
  <cp:revision>7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